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F5F8-3CCF-41EE-BE83-834B613D9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00BA-B697-4B69-BC24-9D5E7373A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874C-0079-4780-A8FF-7B7EC53B7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8305-001D-40B7-BCD8-5C35F78A6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77CC-A498-4DA5-8CED-ADCA0C77F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9DE9-6E96-49B2-80D3-E7DA8B8E1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0BFB-BDFE-4303-BAA9-D0F94ABCA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D0A3-83AF-460F-A25F-BD7A02E3D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647B-27AF-48A3-9131-43F948477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BCD6-66CC-4DA6-998F-F03B3D91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3C53-0C5B-46C8-AB23-4B7AA13E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0B7D-518F-46B2-8BB5-6C566EED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E7DCC-36FE-4FE4-BECA-92D4D8C40E8D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Adding and Subtracting F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By Graeme Hench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250920" y="549360"/>
            <a:ext cx="288108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5"/>
          <p:cNvSpPr/>
          <p:nvPr/>
        </p:nvSpPr>
        <p:spPr>
          <a:xfrm>
            <a:off x="971640" y="54936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6"/>
          <p:cNvSpPr/>
          <p:nvPr/>
        </p:nvSpPr>
        <p:spPr>
          <a:xfrm>
            <a:off x="1692360" y="54936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7"/>
          <p:cNvSpPr/>
          <p:nvPr/>
        </p:nvSpPr>
        <p:spPr>
          <a:xfrm>
            <a:off x="2411280" y="54936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250920" y="549360"/>
            <a:ext cx="720720" cy="1439640"/>
          </a:xfrm>
          <a:prstGeom prst="rect">
            <a:avLst/>
          </a:prstGeom>
          <a:solidFill>
            <a:srgbClr val="f4fa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971640" y="549360"/>
            <a:ext cx="720720" cy="718920"/>
          </a:xfrm>
          <a:prstGeom prst="rect">
            <a:avLst/>
          </a:prstGeom>
          <a:solidFill>
            <a:srgbClr val="f4fa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0"/>
          <p:cNvSpPr/>
          <p:nvPr/>
        </p:nvSpPr>
        <p:spPr>
          <a:xfrm>
            <a:off x="250920" y="1268280"/>
            <a:ext cx="28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Object 11"/>
              <p:cNvSpPr txBox="1"/>
              <p:nvPr/>
            </p:nvSpPr>
            <p:spPr>
              <a:xfrm>
                <a:off x="6877080" y="404640"/>
                <a:ext cx="1257120" cy="172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" name="Text Box 12"/>
          <p:cNvSpPr/>
          <p:nvPr/>
        </p:nvSpPr>
        <p:spPr>
          <a:xfrm>
            <a:off x="971640" y="4869000"/>
            <a:ext cx="583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http://hench-maths.wikispace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7037E-006 L -0.62014 -3.7037E-006 E">
                                      <p:cBhvr>
                                        <p:cTn id="6" dur="5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8" dur="5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0" dur="5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2" dur="5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4" dur="5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6" dur="5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8" dur="5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0" dur="5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Adding Mixed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parate the fraction and the whole number sections, add them separately and recombine at the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4"/>
              <p:cNvSpPr txBox="1"/>
              <p:nvPr/>
            </p:nvSpPr>
            <p:spPr>
              <a:xfrm>
                <a:off x="684360" y="2924280"/>
                <a:ext cx="40932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5"/>
              <p:cNvSpPr txBox="1"/>
              <p:nvPr/>
            </p:nvSpPr>
            <p:spPr>
              <a:xfrm>
                <a:off x="6300720" y="2959200"/>
                <a:ext cx="432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6"/>
              <p:cNvSpPr txBox="1"/>
              <p:nvPr/>
            </p:nvSpPr>
            <p:spPr>
              <a:xfrm>
                <a:off x="5076720" y="2924280"/>
                <a:ext cx="5032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7"/>
              <p:cNvSpPr txBox="1"/>
              <p:nvPr/>
            </p:nvSpPr>
            <p:spPr>
              <a:xfrm>
                <a:off x="3708360" y="2924280"/>
                <a:ext cx="5032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8"/>
              <p:cNvSpPr txBox="1"/>
              <p:nvPr/>
            </p:nvSpPr>
            <p:spPr>
              <a:xfrm>
                <a:off x="1403280" y="2997360"/>
                <a:ext cx="503280" cy="50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9"/>
              <p:cNvSpPr txBox="1"/>
              <p:nvPr/>
            </p:nvSpPr>
            <p:spPr>
              <a:xfrm>
                <a:off x="3733920" y="4073400"/>
                <a:ext cx="5032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10"/>
              <p:cNvSpPr txBox="1"/>
              <p:nvPr/>
            </p:nvSpPr>
            <p:spPr>
              <a:xfrm>
                <a:off x="1042920" y="2781360"/>
                <a:ext cx="36216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11"/>
              <p:cNvSpPr txBox="1"/>
              <p:nvPr/>
            </p:nvSpPr>
            <p:spPr>
              <a:xfrm>
                <a:off x="2268360" y="2852640"/>
                <a:ext cx="2811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12"/>
              <p:cNvSpPr txBox="1"/>
              <p:nvPr/>
            </p:nvSpPr>
            <p:spPr>
              <a:xfrm>
                <a:off x="1908000" y="2924280"/>
                <a:ext cx="4161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13"/>
              <p:cNvSpPr txBox="1"/>
              <p:nvPr/>
            </p:nvSpPr>
            <p:spPr>
              <a:xfrm>
                <a:off x="4284720" y="3768840"/>
                <a:ext cx="411120" cy="106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14"/>
              <p:cNvSpPr txBox="1"/>
              <p:nvPr/>
            </p:nvSpPr>
            <p:spPr>
              <a:xfrm>
                <a:off x="3276720" y="3984480"/>
                <a:ext cx="4633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15"/>
              <p:cNvSpPr txBox="1"/>
              <p:nvPr/>
            </p:nvSpPr>
            <p:spPr>
              <a:xfrm>
                <a:off x="2700360" y="3068640"/>
                <a:ext cx="35064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16"/>
              <p:cNvSpPr txBox="1"/>
              <p:nvPr/>
            </p:nvSpPr>
            <p:spPr>
              <a:xfrm>
                <a:off x="2700360" y="4272120"/>
                <a:ext cx="35064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17"/>
              <p:cNvSpPr txBox="1"/>
              <p:nvPr/>
            </p:nvSpPr>
            <p:spPr>
              <a:xfrm>
                <a:off x="2700360" y="5445000"/>
                <a:ext cx="35064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18"/>
              <p:cNvSpPr txBox="1"/>
              <p:nvPr/>
            </p:nvSpPr>
            <p:spPr>
              <a:xfrm>
                <a:off x="3203640" y="5229360"/>
                <a:ext cx="4633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19"/>
              <p:cNvSpPr txBox="1"/>
              <p:nvPr/>
            </p:nvSpPr>
            <p:spPr>
              <a:xfrm>
                <a:off x="3635280" y="4941720"/>
                <a:ext cx="41112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20"/>
              <p:cNvSpPr txBox="1"/>
              <p:nvPr/>
            </p:nvSpPr>
            <p:spPr>
              <a:xfrm>
                <a:off x="684360" y="2781360"/>
                <a:ext cx="40932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21"/>
              <p:cNvSpPr txBox="1"/>
              <p:nvPr/>
            </p:nvSpPr>
            <p:spPr>
              <a:xfrm>
                <a:off x="1403280" y="2854440"/>
                <a:ext cx="5032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22"/>
              <p:cNvSpPr txBox="1"/>
              <p:nvPr/>
            </p:nvSpPr>
            <p:spPr>
              <a:xfrm>
                <a:off x="1042920" y="2638440"/>
                <a:ext cx="36216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23"/>
              <p:cNvSpPr txBox="1"/>
              <p:nvPr/>
            </p:nvSpPr>
            <p:spPr>
              <a:xfrm>
                <a:off x="2268360" y="2709720"/>
                <a:ext cx="2811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24"/>
              <p:cNvSpPr txBox="1"/>
              <p:nvPr/>
            </p:nvSpPr>
            <p:spPr>
              <a:xfrm>
                <a:off x="1908000" y="2781360"/>
                <a:ext cx="4161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0.00024 C 0.01129 0.06597 0.02275 0.1324 0.05695 0.15902 C 0.09115 0.18564 0.16893 0.18588 0.20556 0.15902 C 0.24219 0.13217 0.2592 0.06504 0.27639 -0.00209 E">
                                      <p:cBhvr>
                                        <p:cTn id="668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05556E-006 5.18519E-006 C 0.00591 0.05626 0.01181 0.11274 0.04028 0.13889 C 0.06876 0.16505 0.13317 0.16389 0.17084 0.15741 C 0.20851 0.15093 0.25018 0.12802 0.26667 0.10001 C 0.28317 0.072 0.27622 0.03033 0.26945 -0.01111 E">
                                      <p:cBhvr>
                                        <p:cTn id="672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61111E-006 3.7037E-007 C 0.03021 0.06922 0.0606 0.13866 0.10695 0.15556 C 0.1533 0.17246 0.23039 0.10116 0.27778 0.10185 C 0.32518 0.10255 0.35695 0.15371 0.39167 0.15926 C 0.42622 0.16482 0.4665 0.16273 0.48612 0.13519 C 0.50573 0.10764 0.50764 0.05093 0.50973 -0.00555 E">
                                      <p:cBhvr>
                                        <p:cTn id="676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7 0.00046 C -0.00122 0.05486 -0.00156 0.10949 0.02135 0.1338 C 0.04427 0.1581 0.09062 0.14468 0.13663 0.14676 C 0.18264 0.14884 0.25469 0.15301 0.29774 0.14676 C 0.3408 0.14051 0.35955 0.10903 0.39496 0.10972 C 0.43038 0.11042 0.46441 0.14375 0.51024 0.15046 C 0.55607 0.15718 0.64132 0.17014 0.66996 0.15046 C 0.69861 0.13079 0.70885 0.04236 0.68246 0.03195 C 0.65607 0.02153 0.54357 0.09421 0.51163 0.0875 C 0.47969 0.08079 0.48524 0.03588 0.4908 -0.0088 E">
                                      <p:cBhvr>
                                        <p:cTn id="680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Adding Fractions with common denomina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3"/>
              <p:cNvSpPr txBox="1"/>
              <p:nvPr/>
            </p:nvSpPr>
            <p:spPr>
              <a:xfrm>
                <a:off x="3203640" y="1413000"/>
                <a:ext cx="1270080" cy="13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" name="Rectangle 4"/>
          <p:cNvSpPr/>
          <p:nvPr/>
        </p:nvSpPr>
        <p:spPr>
          <a:xfrm>
            <a:off x="250920" y="2708280"/>
            <a:ext cx="288108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5"/>
          <p:cNvSpPr/>
          <p:nvPr/>
        </p:nvSpPr>
        <p:spPr>
          <a:xfrm>
            <a:off x="2411280" y="2708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"/>
          <p:cNvSpPr/>
          <p:nvPr/>
        </p:nvSpPr>
        <p:spPr>
          <a:xfrm>
            <a:off x="250920" y="4149720"/>
            <a:ext cx="28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4572000" y="2708280"/>
            <a:ext cx="288144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8"/>
          <p:cNvSpPr/>
          <p:nvPr/>
        </p:nvSpPr>
        <p:spPr>
          <a:xfrm>
            <a:off x="4572000" y="414972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250920" y="2708280"/>
            <a:ext cx="2160360" cy="720720"/>
          </a:xfrm>
          <a:prstGeom prst="rect">
            <a:avLst/>
          </a:prstGeom>
          <a:solidFill>
            <a:srgbClr val="f4fa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4572000" y="2708280"/>
            <a:ext cx="2879640" cy="720720"/>
          </a:xfrm>
          <a:prstGeom prst="rect">
            <a:avLst/>
          </a:prstGeom>
          <a:solidFill>
            <a:srgbClr val="f4fa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1"/>
          <p:cNvSpPr/>
          <p:nvPr/>
        </p:nvSpPr>
        <p:spPr>
          <a:xfrm>
            <a:off x="971640" y="270828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2"/>
          <p:cNvSpPr/>
          <p:nvPr/>
        </p:nvSpPr>
        <p:spPr>
          <a:xfrm>
            <a:off x="1692360" y="270828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3"/>
          <p:cNvSpPr/>
          <p:nvPr/>
        </p:nvSpPr>
        <p:spPr>
          <a:xfrm>
            <a:off x="250920" y="3429000"/>
            <a:ext cx="28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4"/>
          <p:cNvSpPr/>
          <p:nvPr/>
        </p:nvSpPr>
        <p:spPr>
          <a:xfrm>
            <a:off x="5292720" y="270828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5"/>
          <p:cNvSpPr/>
          <p:nvPr/>
        </p:nvSpPr>
        <p:spPr>
          <a:xfrm>
            <a:off x="6012000" y="270828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6"/>
          <p:cNvSpPr/>
          <p:nvPr/>
        </p:nvSpPr>
        <p:spPr>
          <a:xfrm>
            <a:off x="6732720" y="270828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17"/>
              <p:cNvSpPr txBox="1"/>
              <p:nvPr/>
            </p:nvSpPr>
            <p:spPr>
              <a:xfrm>
                <a:off x="4572000" y="1557360"/>
                <a:ext cx="167940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8" name="AutoShape 18"/>
          <p:cNvSpPr/>
          <p:nvPr/>
        </p:nvSpPr>
        <p:spPr>
          <a:xfrm>
            <a:off x="8675640" y="6308640"/>
            <a:ext cx="468360" cy="54936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49360"/>
              <a:gd name="textAreaBottom" fmla="*/ 519120 h 549360"/>
            </a:gdLst>
            <a:ahLst/>
            <a:rect l="textAreaLeft" t="textAreaTop" r="textAreaRight" b="textAreaBottom"/>
            <a:pathLst>
              <a:path w="21600" h="25333">
                <a:moveTo>
                  <a:pt x="0" y="0"/>
                </a:moveTo>
                <a:lnTo>
                  <a:pt x="21600" y="0"/>
                </a:lnTo>
                <a:lnTo>
                  <a:pt x="21600" y="25333"/>
                </a:lnTo>
                <a:lnTo>
                  <a:pt x="0" y="25333"/>
                </a:lnTo>
                <a:close/>
              </a:path>
              <a:path fill="lightenLess" w="21600" h="253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333">
                <a:moveTo>
                  <a:pt x="21600" y="0"/>
                </a:moveTo>
                <a:lnTo>
                  <a:pt x="21600" y="25333"/>
                </a:lnTo>
                <a:lnTo>
                  <a:pt x="20200" y="23933"/>
                </a:lnTo>
                <a:lnTo>
                  <a:pt x="20200" y="1400"/>
                </a:lnTo>
                <a:close/>
              </a:path>
              <a:path fill="darkenLess" w="21600" h="25333">
                <a:moveTo>
                  <a:pt x="21600" y="25333"/>
                </a:moveTo>
                <a:lnTo>
                  <a:pt x="0" y="25333"/>
                </a:lnTo>
                <a:lnTo>
                  <a:pt x="1400" y="23933"/>
                </a:lnTo>
                <a:lnTo>
                  <a:pt x="20200" y="23933"/>
                </a:lnTo>
                <a:close/>
              </a:path>
              <a:path fill="lighten" w="21600" h="25333">
                <a:moveTo>
                  <a:pt x="0" y="253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933"/>
                </a:lnTo>
                <a:close/>
              </a:path>
              <a:path fill="darken" w="21600" h="25333">
                <a:moveTo>
                  <a:pt x="10800" y="5703"/>
                </a:moveTo>
                <a:lnTo>
                  <a:pt x="13376" y="8315"/>
                </a:lnTo>
                <a:lnTo>
                  <a:pt x="13376" y="6574"/>
                </a:lnTo>
                <a:lnTo>
                  <a:pt x="15152" y="6574"/>
                </a:lnTo>
                <a:lnTo>
                  <a:pt x="15152" y="10090"/>
                </a:lnTo>
                <a:lnTo>
                  <a:pt x="17763" y="12666"/>
                </a:lnTo>
                <a:lnTo>
                  <a:pt x="16109" y="12666"/>
                </a:lnTo>
                <a:lnTo>
                  <a:pt x="16109" y="19856"/>
                </a:lnTo>
                <a:lnTo>
                  <a:pt x="5491" y="19856"/>
                </a:lnTo>
                <a:lnTo>
                  <a:pt x="5491" y="12666"/>
                </a:lnTo>
                <a:lnTo>
                  <a:pt x="3837" y="12666"/>
                </a:lnTo>
                <a:close/>
              </a:path>
              <a:path fill="darkenLess" w="21600" h="25333">
                <a:moveTo>
                  <a:pt x="13376" y="8315"/>
                </a:moveTo>
                <a:lnTo>
                  <a:pt x="13376" y="6574"/>
                </a:lnTo>
                <a:lnTo>
                  <a:pt x="15152" y="6574"/>
                </a:lnTo>
                <a:lnTo>
                  <a:pt x="15152" y="10090"/>
                </a:lnTo>
                <a:close/>
              </a:path>
              <a:path fill="darkenLess" w="21600" h="25333">
                <a:moveTo>
                  <a:pt x="9877" y="16165"/>
                </a:moveTo>
                <a:lnTo>
                  <a:pt x="11723" y="16165"/>
                </a:lnTo>
                <a:lnTo>
                  <a:pt x="11723" y="19856"/>
                </a:lnTo>
                <a:lnTo>
                  <a:pt x="16109" y="19856"/>
                </a:lnTo>
                <a:lnTo>
                  <a:pt x="16109" y="12666"/>
                </a:lnTo>
                <a:lnTo>
                  <a:pt x="5491" y="12666"/>
                </a:lnTo>
                <a:lnTo>
                  <a:pt x="5491" y="19856"/>
                </a:lnTo>
                <a:lnTo>
                  <a:pt x="9877" y="1985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37 -0.00162 C 0.01788 -0.00532 0.04843 -0.00856 0.05902 -0.00856 C 0.12656 -0.00856 0.19635 0.04787 0.19635 0.105 C 0.19635 0.07609 0.23125 0.04787 0.26406 0.04787 C 0.29878 0.04787 0.33159 0.07655 0.33159 0.105 C 0.33159 0.09043 0.34913 0.07609 0.36649 0.07609 C 0.38385 0.07609 0.40139 0.09019 0.40139 0.105 C 0.40139 0.09736 0.40989 0.09043 0.41875 0.09043 C 0.42743 0.09043 0.43611 0.09783 0.43611 0.105 C 0.43611 0.10106 0.44062 0.09736 0.44479 0.09736 C 0.44704 0.09736 0.45347 0.10106 0.45347 0.105 C 0.45347 0.10268 0.45573 0.10106 0.45798 0.10106 C 0.45798 0.10153 0.46267 0.10268 0.46267 0.105 C 0.46267 0.10384 0.46267 0.10268 0.46475 0.10268 C 0.46475 0.10338 0.46718 0.10384 0.46718 0.105 C 0.46718 0.1043 0.46718 0.10384 0.46718 0.10338 C 0.46927 0.10338 0.46927 0.10384 0.46927 0.1043 C 0.47152 0.1043 0.47152 0.10384 0.47152 0.10338 C 0.47413 0.10338 0.47413 0.10384 0.47413 0.1043 E">
                                      <p:cBhvr>
                                        <p:cTn id="101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Adding Fractions with different denomina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68360" y="1628640"/>
            <a:ext cx="81360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Problem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You can’t add fractions with different denominators without getting them </a:t>
            </a:r>
            <a:r>
              <a:rPr b="0" lang="en-AU" sz="2400" spc="-1" strike="noStrike">
                <a:solidFill>
                  <a:srgbClr val="c81e0c"/>
                </a:solidFill>
                <a:latin typeface="Comic Sans MS"/>
              </a:rPr>
              <a:t>ready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first. They will be </a:t>
            </a:r>
            <a:r>
              <a:rPr b="0" lang="en-AU" sz="2400" spc="-1" strike="noStrike">
                <a:solidFill>
                  <a:srgbClr val="c81e0c"/>
                </a:solidFill>
                <a:latin typeface="Comic Sans MS"/>
              </a:rPr>
              <a:t>ready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to add when they have common denomin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468360" y="3789360"/>
            <a:ext cx="806436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Solu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Turn  fractions into equivalent fractions with a </a:t>
            </a:r>
            <a:r>
              <a:rPr b="0" lang="en-AU" sz="3600" spc="-1" strike="noStrike">
                <a:solidFill>
                  <a:srgbClr val="c81e0c"/>
                </a:solidFill>
                <a:latin typeface="Comic Sans MS"/>
              </a:rPr>
              <a:t>common denominator 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that is find the Lowest Common Multiple (LCM) of the two denomin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5"/>
          <p:cNvSpPr/>
          <p:nvPr/>
        </p:nvSpPr>
        <p:spPr>
          <a:xfrm>
            <a:off x="8675640" y="6308640"/>
            <a:ext cx="468360" cy="54936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49360"/>
              <a:gd name="textAreaBottom" fmla="*/ 519120 h 549360"/>
            </a:gdLst>
            <a:ahLst/>
            <a:rect l="textAreaLeft" t="textAreaTop" r="textAreaRight" b="textAreaBottom"/>
            <a:pathLst>
              <a:path w="21600" h="25333">
                <a:moveTo>
                  <a:pt x="0" y="0"/>
                </a:moveTo>
                <a:lnTo>
                  <a:pt x="21600" y="0"/>
                </a:lnTo>
                <a:lnTo>
                  <a:pt x="21600" y="25333"/>
                </a:lnTo>
                <a:lnTo>
                  <a:pt x="0" y="25333"/>
                </a:lnTo>
                <a:close/>
              </a:path>
              <a:path fill="lightenLess" w="21600" h="253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333">
                <a:moveTo>
                  <a:pt x="21600" y="0"/>
                </a:moveTo>
                <a:lnTo>
                  <a:pt x="21600" y="25333"/>
                </a:lnTo>
                <a:lnTo>
                  <a:pt x="20200" y="23933"/>
                </a:lnTo>
                <a:lnTo>
                  <a:pt x="20200" y="1400"/>
                </a:lnTo>
                <a:close/>
              </a:path>
              <a:path fill="darkenLess" w="21600" h="25333">
                <a:moveTo>
                  <a:pt x="21600" y="25333"/>
                </a:moveTo>
                <a:lnTo>
                  <a:pt x="0" y="25333"/>
                </a:lnTo>
                <a:lnTo>
                  <a:pt x="1400" y="23933"/>
                </a:lnTo>
                <a:lnTo>
                  <a:pt x="20200" y="23933"/>
                </a:lnTo>
                <a:close/>
              </a:path>
              <a:path fill="lighten" w="21600" h="25333">
                <a:moveTo>
                  <a:pt x="0" y="253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933"/>
                </a:lnTo>
                <a:close/>
              </a:path>
              <a:path fill="darken" w="21600" h="25333">
                <a:moveTo>
                  <a:pt x="10800" y="5703"/>
                </a:moveTo>
                <a:lnTo>
                  <a:pt x="13376" y="8315"/>
                </a:lnTo>
                <a:lnTo>
                  <a:pt x="13376" y="6574"/>
                </a:lnTo>
                <a:lnTo>
                  <a:pt x="15152" y="6574"/>
                </a:lnTo>
                <a:lnTo>
                  <a:pt x="15152" y="10090"/>
                </a:lnTo>
                <a:lnTo>
                  <a:pt x="17763" y="12666"/>
                </a:lnTo>
                <a:lnTo>
                  <a:pt x="16109" y="12666"/>
                </a:lnTo>
                <a:lnTo>
                  <a:pt x="16109" y="19856"/>
                </a:lnTo>
                <a:lnTo>
                  <a:pt x="5491" y="19856"/>
                </a:lnTo>
                <a:lnTo>
                  <a:pt x="5491" y="12666"/>
                </a:lnTo>
                <a:lnTo>
                  <a:pt x="3837" y="12666"/>
                </a:lnTo>
                <a:close/>
              </a:path>
              <a:path fill="darkenLess" w="21600" h="25333">
                <a:moveTo>
                  <a:pt x="13376" y="8315"/>
                </a:moveTo>
                <a:lnTo>
                  <a:pt x="13376" y="6574"/>
                </a:lnTo>
                <a:lnTo>
                  <a:pt x="15152" y="6574"/>
                </a:lnTo>
                <a:lnTo>
                  <a:pt x="15152" y="10090"/>
                </a:lnTo>
                <a:close/>
              </a:path>
              <a:path fill="darkenLess" w="21600" h="25333">
                <a:moveTo>
                  <a:pt x="9877" y="16165"/>
                </a:moveTo>
                <a:lnTo>
                  <a:pt x="11723" y="16165"/>
                </a:lnTo>
                <a:lnTo>
                  <a:pt x="11723" y="19856"/>
                </a:lnTo>
                <a:lnTo>
                  <a:pt x="16109" y="19856"/>
                </a:lnTo>
                <a:lnTo>
                  <a:pt x="16109" y="12666"/>
                </a:lnTo>
                <a:lnTo>
                  <a:pt x="5491" y="12666"/>
                </a:lnTo>
                <a:lnTo>
                  <a:pt x="5491" y="19856"/>
                </a:lnTo>
                <a:lnTo>
                  <a:pt x="9877" y="1985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Finding the </a:t>
            </a:r>
            <a:br>
              <a:rPr sz="4000"/>
            </a:b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Lowest Common Denominato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55280" y="2060640"/>
            <a:ext cx="7931160" cy="13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lowest common multiple of two numbers is the lowest number in BOTH lists of multi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4"/>
              <p:cNvSpPr txBox="1"/>
              <p:nvPr/>
            </p:nvSpPr>
            <p:spPr>
              <a:xfrm>
                <a:off x="611280" y="4005360"/>
                <a:ext cx="118404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76" name="Picture 5" descr="j0282748"/>
          <p:cNvPicPr/>
          <p:nvPr/>
        </p:nvPicPr>
        <p:blipFill>
          <a:blip r:embed="rId1"/>
          <a:stretch/>
        </p:blipFill>
        <p:spPr>
          <a:xfrm>
            <a:off x="1692360" y="5445000"/>
            <a:ext cx="1218960" cy="129564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6"/>
          <p:cNvSpPr/>
          <p:nvPr/>
        </p:nvSpPr>
        <p:spPr>
          <a:xfrm>
            <a:off x="2556000" y="3716280"/>
            <a:ext cx="6192720" cy="2233800"/>
          </a:xfrm>
          <a:prstGeom prst="cloudCallout">
            <a:avLst>
              <a:gd name="adj1" fmla="val -44976"/>
              <a:gd name="adj2" fmla="val 467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Multiples of 2 are 2, 4, 6, 8, 10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Multiples of 3 are 3, 6, 9, 12, 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What is the lowest common multip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7"/>
          <p:cNvSpPr/>
          <p:nvPr/>
        </p:nvSpPr>
        <p:spPr>
          <a:xfrm>
            <a:off x="5940360" y="4637160"/>
            <a:ext cx="0" cy="360360"/>
          </a:xfrm>
          <a:prstGeom prst="line">
            <a:avLst/>
          </a:prstGeom>
          <a:ln w="57240">
            <a:solidFill>
              <a:srgbClr val="c81e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8"/>
          <p:cNvSpPr/>
          <p:nvPr/>
        </p:nvSpPr>
        <p:spPr>
          <a:xfrm flipH="1" flipV="1">
            <a:off x="6156360" y="3651120"/>
            <a:ext cx="31680" cy="449280"/>
          </a:xfrm>
          <a:prstGeom prst="line">
            <a:avLst/>
          </a:prstGeom>
          <a:ln w="57240">
            <a:solidFill>
              <a:srgbClr val="c81e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9"/>
          <p:cNvSpPr/>
          <p:nvPr/>
        </p:nvSpPr>
        <p:spPr>
          <a:xfrm>
            <a:off x="8675640" y="6308640"/>
            <a:ext cx="468360" cy="54936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49360"/>
              <a:gd name="textAreaBottom" fmla="*/ 519120 h 549360"/>
            </a:gdLst>
            <a:ahLst/>
            <a:rect l="textAreaLeft" t="textAreaTop" r="textAreaRight" b="textAreaBottom"/>
            <a:pathLst>
              <a:path w="21600" h="25333">
                <a:moveTo>
                  <a:pt x="0" y="0"/>
                </a:moveTo>
                <a:lnTo>
                  <a:pt x="21600" y="0"/>
                </a:lnTo>
                <a:lnTo>
                  <a:pt x="21600" y="25333"/>
                </a:lnTo>
                <a:lnTo>
                  <a:pt x="0" y="25333"/>
                </a:lnTo>
                <a:close/>
              </a:path>
              <a:path fill="lightenLess" w="21600" h="253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333">
                <a:moveTo>
                  <a:pt x="21600" y="0"/>
                </a:moveTo>
                <a:lnTo>
                  <a:pt x="21600" y="25333"/>
                </a:lnTo>
                <a:lnTo>
                  <a:pt x="20200" y="23933"/>
                </a:lnTo>
                <a:lnTo>
                  <a:pt x="20200" y="1400"/>
                </a:lnTo>
                <a:close/>
              </a:path>
              <a:path fill="darkenLess" w="21600" h="25333">
                <a:moveTo>
                  <a:pt x="21600" y="25333"/>
                </a:moveTo>
                <a:lnTo>
                  <a:pt x="0" y="25333"/>
                </a:lnTo>
                <a:lnTo>
                  <a:pt x="1400" y="23933"/>
                </a:lnTo>
                <a:lnTo>
                  <a:pt x="20200" y="23933"/>
                </a:lnTo>
                <a:close/>
              </a:path>
              <a:path fill="lighten" w="21600" h="25333">
                <a:moveTo>
                  <a:pt x="0" y="253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933"/>
                </a:lnTo>
                <a:close/>
              </a:path>
              <a:path fill="darken" w="21600" h="25333">
                <a:moveTo>
                  <a:pt x="10800" y="5703"/>
                </a:moveTo>
                <a:lnTo>
                  <a:pt x="13376" y="8315"/>
                </a:lnTo>
                <a:lnTo>
                  <a:pt x="13376" y="6574"/>
                </a:lnTo>
                <a:lnTo>
                  <a:pt x="15152" y="6574"/>
                </a:lnTo>
                <a:lnTo>
                  <a:pt x="15152" y="10090"/>
                </a:lnTo>
                <a:lnTo>
                  <a:pt x="17763" y="12666"/>
                </a:lnTo>
                <a:lnTo>
                  <a:pt x="16109" y="12666"/>
                </a:lnTo>
                <a:lnTo>
                  <a:pt x="16109" y="19856"/>
                </a:lnTo>
                <a:lnTo>
                  <a:pt x="5491" y="19856"/>
                </a:lnTo>
                <a:lnTo>
                  <a:pt x="5491" y="12666"/>
                </a:lnTo>
                <a:lnTo>
                  <a:pt x="3837" y="12666"/>
                </a:lnTo>
                <a:close/>
              </a:path>
              <a:path fill="darkenLess" w="21600" h="25333">
                <a:moveTo>
                  <a:pt x="13376" y="8315"/>
                </a:moveTo>
                <a:lnTo>
                  <a:pt x="13376" y="6574"/>
                </a:lnTo>
                <a:lnTo>
                  <a:pt x="15152" y="6574"/>
                </a:lnTo>
                <a:lnTo>
                  <a:pt x="15152" y="10090"/>
                </a:lnTo>
                <a:close/>
              </a:path>
              <a:path fill="darkenLess" w="21600" h="25333">
                <a:moveTo>
                  <a:pt x="9877" y="16165"/>
                </a:moveTo>
                <a:lnTo>
                  <a:pt x="11723" y="16165"/>
                </a:lnTo>
                <a:lnTo>
                  <a:pt x="11723" y="19856"/>
                </a:lnTo>
                <a:lnTo>
                  <a:pt x="16109" y="19856"/>
                </a:lnTo>
                <a:lnTo>
                  <a:pt x="16109" y="12666"/>
                </a:lnTo>
                <a:lnTo>
                  <a:pt x="5491" y="12666"/>
                </a:lnTo>
                <a:lnTo>
                  <a:pt x="5491" y="19856"/>
                </a:lnTo>
                <a:lnTo>
                  <a:pt x="9877" y="1985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4" dur="250" autoRev="1" fill="hold"/>
                                        <p:tgtEl>
                                          <p:spTgt spid="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7" dur="250" autoRev="1" fill="hold"/>
                                        <p:tgtEl>
                                          <p:spTgt spid="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Finding the </a:t>
            </a:r>
            <a:br>
              <a:rPr sz="4000"/>
            </a:b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Lowest Common Denominato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55280" y="2060640"/>
            <a:ext cx="7931160" cy="13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lowest common multiple of two numbers is the lowest number they will BOTH divide i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4"/>
              <p:cNvSpPr txBox="1"/>
              <p:nvPr/>
            </p:nvSpPr>
            <p:spPr>
              <a:xfrm>
                <a:off x="611280" y="4005360"/>
                <a:ext cx="118404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84" name="Picture 5" descr="j0282748"/>
          <p:cNvPicPr/>
          <p:nvPr/>
        </p:nvPicPr>
        <p:blipFill>
          <a:blip r:embed="rId1"/>
          <a:stretch/>
        </p:blipFill>
        <p:spPr>
          <a:xfrm>
            <a:off x="1692360" y="5445000"/>
            <a:ext cx="1218960" cy="12956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6"/>
          <p:cNvSpPr/>
          <p:nvPr/>
        </p:nvSpPr>
        <p:spPr>
          <a:xfrm>
            <a:off x="2556000" y="3716280"/>
            <a:ext cx="6192720" cy="2233800"/>
          </a:xfrm>
          <a:prstGeom prst="cloudCallout">
            <a:avLst>
              <a:gd name="adj1" fmla="val -44976"/>
              <a:gd name="adj2" fmla="val 467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2 divides into 2, 4, 6, 8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3 divides into 3, 6, 9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What is the lowest number 2 and 3  both divide int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7"/>
          <p:cNvSpPr/>
          <p:nvPr/>
        </p:nvSpPr>
        <p:spPr>
          <a:xfrm flipH="1" flipV="1">
            <a:off x="6156360" y="3651120"/>
            <a:ext cx="31680" cy="449280"/>
          </a:xfrm>
          <a:prstGeom prst="line">
            <a:avLst/>
          </a:prstGeom>
          <a:ln w="57240">
            <a:solidFill>
              <a:srgbClr val="c81e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6084720" y="4637160"/>
            <a:ext cx="0" cy="360360"/>
          </a:xfrm>
          <a:prstGeom prst="line">
            <a:avLst/>
          </a:prstGeom>
          <a:ln w="57240">
            <a:solidFill>
              <a:srgbClr val="c81e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9"/>
          <p:cNvSpPr/>
          <p:nvPr/>
        </p:nvSpPr>
        <p:spPr>
          <a:xfrm>
            <a:off x="8675640" y="6308640"/>
            <a:ext cx="468360" cy="54936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49360"/>
              <a:gd name="textAreaBottom" fmla="*/ 519120 h 549360"/>
            </a:gdLst>
            <a:ahLst/>
            <a:rect l="textAreaLeft" t="textAreaTop" r="textAreaRight" b="textAreaBottom"/>
            <a:pathLst>
              <a:path w="21600" h="25333">
                <a:moveTo>
                  <a:pt x="0" y="0"/>
                </a:moveTo>
                <a:lnTo>
                  <a:pt x="21600" y="0"/>
                </a:lnTo>
                <a:lnTo>
                  <a:pt x="21600" y="25333"/>
                </a:lnTo>
                <a:lnTo>
                  <a:pt x="0" y="25333"/>
                </a:lnTo>
                <a:close/>
              </a:path>
              <a:path fill="lightenLess" w="21600" h="253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333">
                <a:moveTo>
                  <a:pt x="21600" y="0"/>
                </a:moveTo>
                <a:lnTo>
                  <a:pt x="21600" y="25333"/>
                </a:lnTo>
                <a:lnTo>
                  <a:pt x="20200" y="23933"/>
                </a:lnTo>
                <a:lnTo>
                  <a:pt x="20200" y="1400"/>
                </a:lnTo>
                <a:close/>
              </a:path>
              <a:path fill="darkenLess" w="21600" h="25333">
                <a:moveTo>
                  <a:pt x="21600" y="25333"/>
                </a:moveTo>
                <a:lnTo>
                  <a:pt x="0" y="25333"/>
                </a:lnTo>
                <a:lnTo>
                  <a:pt x="1400" y="23933"/>
                </a:lnTo>
                <a:lnTo>
                  <a:pt x="20200" y="23933"/>
                </a:lnTo>
                <a:close/>
              </a:path>
              <a:path fill="lighten" w="21600" h="25333">
                <a:moveTo>
                  <a:pt x="0" y="253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933"/>
                </a:lnTo>
                <a:close/>
              </a:path>
              <a:path fill="darken" w="21600" h="25333">
                <a:moveTo>
                  <a:pt x="10800" y="5703"/>
                </a:moveTo>
                <a:lnTo>
                  <a:pt x="13376" y="8315"/>
                </a:lnTo>
                <a:lnTo>
                  <a:pt x="13376" y="6574"/>
                </a:lnTo>
                <a:lnTo>
                  <a:pt x="15152" y="6574"/>
                </a:lnTo>
                <a:lnTo>
                  <a:pt x="15152" y="10090"/>
                </a:lnTo>
                <a:lnTo>
                  <a:pt x="17763" y="12666"/>
                </a:lnTo>
                <a:lnTo>
                  <a:pt x="16109" y="12666"/>
                </a:lnTo>
                <a:lnTo>
                  <a:pt x="16109" y="19856"/>
                </a:lnTo>
                <a:lnTo>
                  <a:pt x="5491" y="19856"/>
                </a:lnTo>
                <a:lnTo>
                  <a:pt x="5491" y="12666"/>
                </a:lnTo>
                <a:lnTo>
                  <a:pt x="3837" y="12666"/>
                </a:lnTo>
                <a:close/>
              </a:path>
              <a:path fill="darkenLess" w="21600" h="25333">
                <a:moveTo>
                  <a:pt x="13376" y="8315"/>
                </a:moveTo>
                <a:lnTo>
                  <a:pt x="13376" y="6574"/>
                </a:lnTo>
                <a:lnTo>
                  <a:pt x="15152" y="6574"/>
                </a:lnTo>
                <a:lnTo>
                  <a:pt x="15152" y="10090"/>
                </a:lnTo>
                <a:close/>
              </a:path>
              <a:path fill="darkenLess" w="21600" h="25333">
                <a:moveTo>
                  <a:pt x="9877" y="16165"/>
                </a:moveTo>
                <a:lnTo>
                  <a:pt x="11723" y="16165"/>
                </a:lnTo>
                <a:lnTo>
                  <a:pt x="11723" y="19856"/>
                </a:lnTo>
                <a:lnTo>
                  <a:pt x="16109" y="19856"/>
                </a:lnTo>
                <a:lnTo>
                  <a:pt x="16109" y="12666"/>
                </a:lnTo>
                <a:lnTo>
                  <a:pt x="5491" y="12666"/>
                </a:lnTo>
                <a:lnTo>
                  <a:pt x="5491" y="19856"/>
                </a:lnTo>
                <a:lnTo>
                  <a:pt x="9877" y="1985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971640" y="1268280"/>
            <a:ext cx="2160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5292720" y="1268280"/>
            <a:ext cx="215892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971640" y="1989000"/>
            <a:ext cx="2160360" cy="719280"/>
          </a:xfrm>
          <a:prstGeom prst="rect">
            <a:avLst/>
          </a:prstGeom>
          <a:solidFill>
            <a:srgbClr val="f4fa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5292720" y="1268280"/>
            <a:ext cx="719280" cy="1440000"/>
          </a:xfrm>
          <a:prstGeom prst="rect">
            <a:avLst/>
          </a:prstGeom>
          <a:solidFill>
            <a:srgbClr val="f4fa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3780000" y="1413000"/>
            <a:ext cx="93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7"/>
          <p:cNvSpPr/>
          <p:nvPr/>
        </p:nvSpPr>
        <p:spPr>
          <a:xfrm>
            <a:off x="6732720" y="126828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250920" y="2997360"/>
            <a:ext cx="86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The Lowest Common Multiple of 2 and 3 is 6  so turn all fractions into six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9"/>
          <p:cNvSpPr/>
          <p:nvPr/>
        </p:nvSpPr>
        <p:spPr>
          <a:xfrm>
            <a:off x="1692360" y="126828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0"/>
          <p:cNvSpPr/>
          <p:nvPr/>
        </p:nvSpPr>
        <p:spPr>
          <a:xfrm>
            <a:off x="2411280" y="126828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1"/>
          <p:cNvSpPr/>
          <p:nvPr/>
        </p:nvSpPr>
        <p:spPr>
          <a:xfrm>
            <a:off x="5292720" y="198900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12"/>
              <p:cNvSpPr txBox="1"/>
              <p:nvPr/>
            </p:nvSpPr>
            <p:spPr>
              <a:xfrm>
                <a:off x="250920" y="3645000"/>
                <a:ext cx="6011640" cy="15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" name="Rectangle 13"/>
          <p:cNvSpPr/>
          <p:nvPr/>
        </p:nvSpPr>
        <p:spPr>
          <a:xfrm>
            <a:off x="6732720" y="4149720"/>
            <a:ext cx="215892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4"/>
          <p:cNvSpPr/>
          <p:nvPr/>
        </p:nvSpPr>
        <p:spPr>
          <a:xfrm>
            <a:off x="6732720" y="4149720"/>
            <a:ext cx="2158920" cy="719280"/>
          </a:xfrm>
          <a:prstGeom prst="rect">
            <a:avLst/>
          </a:prstGeom>
          <a:solidFill>
            <a:srgbClr val="f4fa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5"/>
          <p:cNvSpPr/>
          <p:nvPr/>
        </p:nvSpPr>
        <p:spPr>
          <a:xfrm>
            <a:off x="6732720" y="4869000"/>
            <a:ext cx="1439640" cy="720720"/>
          </a:xfrm>
          <a:prstGeom prst="rect">
            <a:avLst/>
          </a:prstGeom>
          <a:solidFill>
            <a:srgbClr val="f4fa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6"/>
          <p:cNvSpPr/>
          <p:nvPr/>
        </p:nvSpPr>
        <p:spPr>
          <a:xfrm>
            <a:off x="7451640" y="414972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7"/>
          <p:cNvSpPr/>
          <p:nvPr/>
        </p:nvSpPr>
        <p:spPr>
          <a:xfrm>
            <a:off x="8172360" y="414972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8"/>
          <p:cNvSpPr/>
          <p:nvPr/>
        </p:nvSpPr>
        <p:spPr>
          <a:xfrm>
            <a:off x="4500720" y="115920"/>
            <a:ext cx="4643280" cy="1009440"/>
          </a:xfrm>
          <a:prstGeom prst="cloudCallout">
            <a:avLst>
              <a:gd name="adj1" fmla="val -60361"/>
              <a:gd name="adj2" fmla="val -51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You can’t add fractions with different denomin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9"/>
          <p:cNvSpPr/>
          <p:nvPr/>
        </p:nvSpPr>
        <p:spPr>
          <a:xfrm>
            <a:off x="900000" y="5950080"/>
            <a:ext cx="266400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81e0c"/>
                </a:solidFill>
                <a:latin typeface="Arial"/>
              </a:rPr>
              <a:t>Special form of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0"/>
          <p:cNvSpPr/>
          <p:nvPr/>
        </p:nvSpPr>
        <p:spPr>
          <a:xfrm flipH="1" flipV="1">
            <a:off x="1476360" y="5373360"/>
            <a:ext cx="7128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1"/>
          <p:cNvSpPr/>
          <p:nvPr/>
        </p:nvSpPr>
        <p:spPr>
          <a:xfrm flipV="1">
            <a:off x="2771640" y="5373360"/>
            <a:ext cx="14472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22"/>
              <p:cNvSpPr txBox="1"/>
              <p:nvPr/>
            </p:nvSpPr>
            <p:spPr>
              <a:xfrm>
                <a:off x="2268360" y="0"/>
                <a:ext cx="1644840" cy="11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0" name="AutoShape 23"/>
          <p:cNvSpPr/>
          <p:nvPr/>
        </p:nvSpPr>
        <p:spPr>
          <a:xfrm>
            <a:off x="8675640" y="6308640"/>
            <a:ext cx="468360" cy="54936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49360"/>
              <a:gd name="textAreaBottom" fmla="*/ 519120 h 549360"/>
            </a:gdLst>
            <a:ahLst/>
            <a:rect l="textAreaLeft" t="textAreaTop" r="textAreaRight" b="textAreaBottom"/>
            <a:pathLst>
              <a:path w="21600" h="25333">
                <a:moveTo>
                  <a:pt x="0" y="0"/>
                </a:moveTo>
                <a:lnTo>
                  <a:pt x="21600" y="0"/>
                </a:lnTo>
                <a:lnTo>
                  <a:pt x="21600" y="25333"/>
                </a:lnTo>
                <a:lnTo>
                  <a:pt x="0" y="25333"/>
                </a:lnTo>
                <a:close/>
              </a:path>
              <a:path fill="lightenLess" w="21600" h="253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333">
                <a:moveTo>
                  <a:pt x="21600" y="0"/>
                </a:moveTo>
                <a:lnTo>
                  <a:pt x="21600" y="25333"/>
                </a:lnTo>
                <a:lnTo>
                  <a:pt x="20200" y="23933"/>
                </a:lnTo>
                <a:lnTo>
                  <a:pt x="20200" y="1400"/>
                </a:lnTo>
                <a:close/>
              </a:path>
              <a:path fill="darkenLess" w="21600" h="25333">
                <a:moveTo>
                  <a:pt x="21600" y="25333"/>
                </a:moveTo>
                <a:lnTo>
                  <a:pt x="0" y="25333"/>
                </a:lnTo>
                <a:lnTo>
                  <a:pt x="1400" y="23933"/>
                </a:lnTo>
                <a:lnTo>
                  <a:pt x="20200" y="23933"/>
                </a:lnTo>
                <a:close/>
              </a:path>
              <a:path fill="lighten" w="21600" h="25333">
                <a:moveTo>
                  <a:pt x="0" y="253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933"/>
                </a:lnTo>
                <a:close/>
              </a:path>
              <a:path fill="darken" w="21600" h="25333">
                <a:moveTo>
                  <a:pt x="10800" y="5703"/>
                </a:moveTo>
                <a:lnTo>
                  <a:pt x="13376" y="8315"/>
                </a:lnTo>
                <a:lnTo>
                  <a:pt x="13376" y="6574"/>
                </a:lnTo>
                <a:lnTo>
                  <a:pt x="15152" y="6574"/>
                </a:lnTo>
                <a:lnTo>
                  <a:pt x="15152" y="10090"/>
                </a:lnTo>
                <a:lnTo>
                  <a:pt x="17763" y="12666"/>
                </a:lnTo>
                <a:lnTo>
                  <a:pt x="16109" y="12666"/>
                </a:lnTo>
                <a:lnTo>
                  <a:pt x="16109" y="19856"/>
                </a:lnTo>
                <a:lnTo>
                  <a:pt x="5491" y="19856"/>
                </a:lnTo>
                <a:lnTo>
                  <a:pt x="5491" y="12666"/>
                </a:lnTo>
                <a:lnTo>
                  <a:pt x="3837" y="12666"/>
                </a:lnTo>
                <a:close/>
              </a:path>
              <a:path fill="darkenLess" w="21600" h="25333">
                <a:moveTo>
                  <a:pt x="13376" y="8315"/>
                </a:moveTo>
                <a:lnTo>
                  <a:pt x="13376" y="6574"/>
                </a:lnTo>
                <a:lnTo>
                  <a:pt x="15152" y="6574"/>
                </a:lnTo>
                <a:lnTo>
                  <a:pt x="15152" y="10090"/>
                </a:lnTo>
                <a:close/>
              </a:path>
              <a:path fill="darkenLess" w="21600" h="25333">
                <a:moveTo>
                  <a:pt x="9877" y="16165"/>
                </a:moveTo>
                <a:lnTo>
                  <a:pt x="11723" y="16165"/>
                </a:lnTo>
                <a:lnTo>
                  <a:pt x="11723" y="19856"/>
                </a:lnTo>
                <a:lnTo>
                  <a:pt x="16109" y="19856"/>
                </a:lnTo>
                <a:lnTo>
                  <a:pt x="16109" y="12666"/>
                </a:lnTo>
                <a:lnTo>
                  <a:pt x="5491" y="12666"/>
                </a:lnTo>
                <a:lnTo>
                  <a:pt x="5491" y="19856"/>
                </a:lnTo>
                <a:lnTo>
                  <a:pt x="9877" y="1985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250920" y="1989000"/>
            <a:ext cx="3600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4572000" y="1989000"/>
            <a:ext cx="3600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250920" y="1989000"/>
            <a:ext cx="3600360" cy="719280"/>
          </a:xfrm>
          <a:prstGeom prst="rect">
            <a:avLst/>
          </a:prstGeom>
          <a:solidFill>
            <a:srgbClr val="f4fa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4572000" y="1989000"/>
            <a:ext cx="1440000" cy="1440000"/>
          </a:xfrm>
          <a:prstGeom prst="rect">
            <a:avLst/>
          </a:prstGeom>
          <a:solidFill>
            <a:srgbClr val="f4fa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"/>
          <p:cNvSpPr/>
          <p:nvPr/>
        </p:nvSpPr>
        <p:spPr>
          <a:xfrm>
            <a:off x="5292720" y="198900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7"/>
          <p:cNvSpPr/>
          <p:nvPr/>
        </p:nvSpPr>
        <p:spPr>
          <a:xfrm>
            <a:off x="6732720" y="198900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>
            <a:off x="7451640" y="198900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9"/>
              <p:cNvSpPr txBox="1"/>
              <p:nvPr/>
            </p:nvSpPr>
            <p:spPr>
              <a:xfrm>
                <a:off x="900000" y="4305240"/>
                <a:ext cx="2303640" cy="12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9" name="Line 10"/>
          <p:cNvSpPr/>
          <p:nvPr/>
        </p:nvSpPr>
        <p:spPr>
          <a:xfrm>
            <a:off x="971640" y="198900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1"/>
          <p:cNvSpPr/>
          <p:nvPr/>
        </p:nvSpPr>
        <p:spPr>
          <a:xfrm>
            <a:off x="1692360" y="198900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2"/>
          <p:cNvSpPr/>
          <p:nvPr/>
        </p:nvSpPr>
        <p:spPr>
          <a:xfrm>
            <a:off x="2411280" y="198900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3"/>
          <p:cNvSpPr/>
          <p:nvPr/>
        </p:nvSpPr>
        <p:spPr>
          <a:xfrm>
            <a:off x="3132000" y="198900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4"/>
          <p:cNvSpPr/>
          <p:nvPr/>
        </p:nvSpPr>
        <p:spPr>
          <a:xfrm>
            <a:off x="4572000" y="270828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15"/>
              <p:cNvSpPr txBox="1"/>
              <p:nvPr/>
            </p:nvSpPr>
            <p:spPr>
              <a:xfrm>
                <a:off x="3317760" y="90360"/>
                <a:ext cx="180036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5" name="Rectangle 16"/>
          <p:cNvSpPr/>
          <p:nvPr/>
        </p:nvSpPr>
        <p:spPr>
          <a:xfrm>
            <a:off x="4572000" y="4149720"/>
            <a:ext cx="3600360" cy="1440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7"/>
          <p:cNvSpPr/>
          <p:nvPr/>
        </p:nvSpPr>
        <p:spPr>
          <a:xfrm>
            <a:off x="4572000" y="486900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8"/>
          <p:cNvSpPr/>
          <p:nvPr/>
        </p:nvSpPr>
        <p:spPr>
          <a:xfrm>
            <a:off x="4572000" y="4149720"/>
            <a:ext cx="3600360" cy="719280"/>
          </a:xfrm>
          <a:prstGeom prst="rect">
            <a:avLst/>
          </a:prstGeom>
          <a:solidFill>
            <a:srgbClr val="f4fa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7451640" y="414972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0"/>
          <p:cNvSpPr/>
          <p:nvPr/>
        </p:nvSpPr>
        <p:spPr>
          <a:xfrm>
            <a:off x="4572000" y="4869000"/>
            <a:ext cx="2879640" cy="720720"/>
          </a:xfrm>
          <a:prstGeom prst="rect">
            <a:avLst/>
          </a:prstGeom>
          <a:solidFill>
            <a:srgbClr val="f4fa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1"/>
          <p:cNvSpPr/>
          <p:nvPr/>
        </p:nvSpPr>
        <p:spPr>
          <a:xfrm>
            <a:off x="5292720" y="414972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2"/>
          <p:cNvSpPr/>
          <p:nvPr/>
        </p:nvSpPr>
        <p:spPr>
          <a:xfrm>
            <a:off x="6012000" y="414972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3"/>
          <p:cNvSpPr/>
          <p:nvPr/>
        </p:nvSpPr>
        <p:spPr>
          <a:xfrm>
            <a:off x="6732720" y="414972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4"/>
          <p:cNvSpPr/>
          <p:nvPr/>
        </p:nvSpPr>
        <p:spPr>
          <a:xfrm>
            <a:off x="395280" y="1197000"/>
            <a:ext cx="84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Lowest common denominator is 10 so make all fractions te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25"/>
          <p:cNvSpPr/>
          <p:nvPr/>
        </p:nvSpPr>
        <p:spPr>
          <a:xfrm>
            <a:off x="8675640" y="6308640"/>
            <a:ext cx="468360" cy="54936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49360"/>
              <a:gd name="textAreaBottom" fmla="*/ 519120 h 549360"/>
            </a:gdLst>
            <a:ahLst/>
            <a:rect l="textAreaLeft" t="textAreaTop" r="textAreaRight" b="textAreaBottom"/>
            <a:pathLst>
              <a:path w="21600" h="25333">
                <a:moveTo>
                  <a:pt x="0" y="0"/>
                </a:moveTo>
                <a:lnTo>
                  <a:pt x="21600" y="0"/>
                </a:lnTo>
                <a:lnTo>
                  <a:pt x="21600" y="25333"/>
                </a:lnTo>
                <a:lnTo>
                  <a:pt x="0" y="25333"/>
                </a:lnTo>
                <a:close/>
              </a:path>
              <a:path fill="lightenLess" w="21600" h="253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333">
                <a:moveTo>
                  <a:pt x="21600" y="0"/>
                </a:moveTo>
                <a:lnTo>
                  <a:pt x="21600" y="25333"/>
                </a:lnTo>
                <a:lnTo>
                  <a:pt x="20200" y="23933"/>
                </a:lnTo>
                <a:lnTo>
                  <a:pt x="20200" y="1400"/>
                </a:lnTo>
                <a:close/>
              </a:path>
              <a:path fill="darkenLess" w="21600" h="25333">
                <a:moveTo>
                  <a:pt x="21600" y="25333"/>
                </a:moveTo>
                <a:lnTo>
                  <a:pt x="0" y="25333"/>
                </a:lnTo>
                <a:lnTo>
                  <a:pt x="1400" y="23933"/>
                </a:lnTo>
                <a:lnTo>
                  <a:pt x="20200" y="23933"/>
                </a:lnTo>
                <a:close/>
              </a:path>
              <a:path fill="lighten" w="21600" h="25333">
                <a:moveTo>
                  <a:pt x="0" y="253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933"/>
                </a:lnTo>
                <a:close/>
              </a:path>
              <a:path fill="darken" w="21600" h="25333">
                <a:moveTo>
                  <a:pt x="10800" y="5703"/>
                </a:moveTo>
                <a:lnTo>
                  <a:pt x="13376" y="8315"/>
                </a:lnTo>
                <a:lnTo>
                  <a:pt x="13376" y="6574"/>
                </a:lnTo>
                <a:lnTo>
                  <a:pt x="15152" y="6574"/>
                </a:lnTo>
                <a:lnTo>
                  <a:pt x="15152" y="10090"/>
                </a:lnTo>
                <a:lnTo>
                  <a:pt x="17763" y="12666"/>
                </a:lnTo>
                <a:lnTo>
                  <a:pt x="16109" y="12666"/>
                </a:lnTo>
                <a:lnTo>
                  <a:pt x="16109" y="19856"/>
                </a:lnTo>
                <a:lnTo>
                  <a:pt x="5491" y="19856"/>
                </a:lnTo>
                <a:lnTo>
                  <a:pt x="5491" y="12666"/>
                </a:lnTo>
                <a:lnTo>
                  <a:pt x="3837" y="12666"/>
                </a:lnTo>
                <a:close/>
              </a:path>
              <a:path fill="darkenLess" w="21600" h="25333">
                <a:moveTo>
                  <a:pt x="13376" y="8315"/>
                </a:moveTo>
                <a:lnTo>
                  <a:pt x="13376" y="6574"/>
                </a:lnTo>
                <a:lnTo>
                  <a:pt x="15152" y="6574"/>
                </a:lnTo>
                <a:lnTo>
                  <a:pt x="15152" y="10090"/>
                </a:lnTo>
                <a:close/>
              </a:path>
              <a:path fill="darkenLess" w="21600" h="25333">
                <a:moveTo>
                  <a:pt x="9877" y="16165"/>
                </a:moveTo>
                <a:lnTo>
                  <a:pt x="11723" y="16165"/>
                </a:lnTo>
                <a:lnTo>
                  <a:pt x="11723" y="19856"/>
                </a:lnTo>
                <a:lnTo>
                  <a:pt x="16109" y="19856"/>
                </a:lnTo>
                <a:lnTo>
                  <a:pt x="16109" y="12666"/>
                </a:lnTo>
                <a:lnTo>
                  <a:pt x="5491" y="12666"/>
                </a:lnTo>
                <a:lnTo>
                  <a:pt x="5491" y="19856"/>
                </a:lnTo>
                <a:lnTo>
                  <a:pt x="9877" y="1985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250920" y="1268280"/>
            <a:ext cx="2881080" cy="216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3"/>
              <p:cNvSpPr txBox="1"/>
              <p:nvPr/>
            </p:nvSpPr>
            <p:spPr>
              <a:xfrm>
                <a:off x="2987640" y="0"/>
                <a:ext cx="22636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" name="Rectangle 4"/>
          <p:cNvSpPr/>
          <p:nvPr/>
        </p:nvSpPr>
        <p:spPr>
          <a:xfrm>
            <a:off x="4500720" y="1268280"/>
            <a:ext cx="2879640" cy="216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250920" y="1268280"/>
            <a:ext cx="2881080" cy="719280"/>
          </a:xfrm>
          <a:prstGeom prst="rect">
            <a:avLst/>
          </a:prstGeom>
          <a:solidFill>
            <a:srgbClr val="f4fa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4500720" y="1268280"/>
            <a:ext cx="720720" cy="2160720"/>
          </a:xfrm>
          <a:prstGeom prst="rect">
            <a:avLst/>
          </a:prstGeom>
          <a:solidFill>
            <a:srgbClr val="f4fa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7"/>
          <p:cNvSpPr/>
          <p:nvPr/>
        </p:nvSpPr>
        <p:spPr>
          <a:xfrm>
            <a:off x="250920" y="2708280"/>
            <a:ext cx="28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5940360" y="1268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9"/>
          <p:cNvSpPr/>
          <p:nvPr/>
        </p:nvSpPr>
        <p:spPr>
          <a:xfrm>
            <a:off x="6661080" y="1268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900000" y="364500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urn both fractions into twelf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1"/>
          <p:cNvSpPr/>
          <p:nvPr/>
        </p:nvSpPr>
        <p:spPr>
          <a:xfrm>
            <a:off x="971640" y="1268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2"/>
          <p:cNvSpPr/>
          <p:nvPr/>
        </p:nvSpPr>
        <p:spPr>
          <a:xfrm>
            <a:off x="1692360" y="1268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3"/>
          <p:cNvSpPr/>
          <p:nvPr/>
        </p:nvSpPr>
        <p:spPr>
          <a:xfrm>
            <a:off x="2411280" y="1268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4"/>
          <p:cNvSpPr/>
          <p:nvPr/>
        </p:nvSpPr>
        <p:spPr>
          <a:xfrm>
            <a:off x="4500720" y="198756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5"/>
          <p:cNvSpPr/>
          <p:nvPr/>
        </p:nvSpPr>
        <p:spPr>
          <a:xfrm>
            <a:off x="4500720" y="270828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16"/>
              <p:cNvSpPr txBox="1"/>
              <p:nvPr/>
            </p:nvSpPr>
            <p:spPr>
              <a:xfrm>
                <a:off x="324000" y="4508640"/>
                <a:ext cx="282564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0" name="Rectangle 17"/>
          <p:cNvSpPr/>
          <p:nvPr/>
        </p:nvSpPr>
        <p:spPr>
          <a:xfrm>
            <a:off x="4500720" y="4149720"/>
            <a:ext cx="2879640" cy="216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8"/>
          <p:cNvSpPr/>
          <p:nvPr/>
        </p:nvSpPr>
        <p:spPr>
          <a:xfrm>
            <a:off x="4500720" y="4149720"/>
            <a:ext cx="720720" cy="2160720"/>
          </a:xfrm>
          <a:prstGeom prst="rect">
            <a:avLst/>
          </a:prstGeom>
          <a:solidFill>
            <a:srgbClr val="f4fa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9"/>
          <p:cNvSpPr/>
          <p:nvPr/>
        </p:nvSpPr>
        <p:spPr>
          <a:xfrm>
            <a:off x="6661080" y="414972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0"/>
          <p:cNvSpPr/>
          <p:nvPr/>
        </p:nvSpPr>
        <p:spPr>
          <a:xfrm>
            <a:off x="4500720" y="486900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1"/>
          <p:cNvSpPr/>
          <p:nvPr/>
        </p:nvSpPr>
        <p:spPr>
          <a:xfrm>
            <a:off x="4500720" y="558972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2"/>
          <p:cNvSpPr/>
          <p:nvPr/>
        </p:nvSpPr>
        <p:spPr>
          <a:xfrm>
            <a:off x="4500720" y="558972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3"/>
          <p:cNvSpPr/>
          <p:nvPr/>
        </p:nvSpPr>
        <p:spPr>
          <a:xfrm>
            <a:off x="5219640" y="4149720"/>
            <a:ext cx="1440000" cy="1440000"/>
          </a:xfrm>
          <a:prstGeom prst="rect">
            <a:avLst/>
          </a:prstGeom>
          <a:solidFill>
            <a:srgbClr val="f4fa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4"/>
          <p:cNvSpPr/>
          <p:nvPr/>
        </p:nvSpPr>
        <p:spPr>
          <a:xfrm>
            <a:off x="4500720" y="486900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5"/>
          <p:cNvSpPr/>
          <p:nvPr/>
        </p:nvSpPr>
        <p:spPr>
          <a:xfrm>
            <a:off x="5940360" y="414972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26"/>
          <p:cNvSpPr/>
          <p:nvPr/>
        </p:nvSpPr>
        <p:spPr>
          <a:xfrm>
            <a:off x="8675640" y="6308640"/>
            <a:ext cx="468360" cy="54936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49360"/>
              <a:gd name="textAreaBottom" fmla="*/ 519120 h 549360"/>
            </a:gdLst>
            <a:ahLst/>
            <a:rect l="textAreaLeft" t="textAreaTop" r="textAreaRight" b="textAreaBottom"/>
            <a:pathLst>
              <a:path w="21600" h="25333">
                <a:moveTo>
                  <a:pt x="0" y="0"/>
                </a:moveTo>
                <a:lnTo>
                  <a:pt x="21600" y="0"/>
                </a:lnTo>
                <a:lnTo>
                  <a:pt x="21600" y="25333"/>
                </a:lnTo>
                <a:lnTo>
                  <a:pt x="0" y="25333"/>
                </a:lnTo>
                <a:close/>
              </a:path>
              <a:path fill="lightenLess" w="21600" h="253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333">
                <a:moveTo>
                  <a:pt x="21600" y="0"/>
                </a:moveTo>
                <a:lnTo>
                  <a:pt x="21600" y="25333"/>
                </a:lnTo>
                <a:lnTo>
                  <a:pt x="20200" y="23933"/>
                </a:lnTo>
                <a:lnTo>
                  <a:pt x="20200" y="1400"/>
                </a:lnTo>
                <a:close/>
              </a:path>
              <a:path fill="darkenLess" w="21600" h="25333">
                <a:moveTo>
                  <a:pt x="21600" y="25333"/>
                </a:moveTo>
                <a:lnTo>
                  <a:pt x="0" y="25333"/>
                </a:lnTo>
                <a:lnTo>
                  <a:pt x="1400" y="23933"/>
                </a:lnTo>
                <a:lnTo>
                  <a:pt x="20200" y="23933"/>
                </a:lnTo>
                <a:close/>
              </a:path>
              <a:path fill="lighten" w="21600" h="25333">
                <a:moveTo>
                  <a:pt x="0" y="253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933"/>
                </a:lnTo>
                <a:close/>
              </a:path>
              <a:path fill="darken" w="21600" h="25333">
                <a:moveTo>
                  <a:pt x="10800" y="5703"/>
                </a:moveTo>
                <a:lnTo>
                  <a:pt x="13376" y="8315"/>
                </a:lnTo>
                <a:lnTo>
                  <a:pt x="13376" y="6574"/>
                </a:lnTo>
                <a:lnTo>
                  <a:pt x="15152" y="6574"/>
                </a:lnTo>
                <a:lnTo>
                  <a:pt x="15152" y="10090"/>
                </a:lnTo>
                <a:lnTo>
                  <a:pt x="17763" y="12666"/>
                </a:lnTo>
                <a:lnTo>
                  <a:pt x="16109" y="12666"/>
                </a:lnTo>
                <a:lnTo>
                  <a:pt x="16109" y="19856"/>
                </a:lnTo>
                <a:lnTo>
                  <a:pt x="5491" y="19856"/>
                </a:lnTo>
                <a:lnTo>
                  <a:pt x="5491" y="12666"/>
                </a:lnTo>
                <a:lnTo>
                  <a:pt x="3837" y="12666"/>
                </a:lnTo>
                <a:close/>
              </a:path>
              <a:path fill="darkenLess" w="21600" h="25333">
                <a:moveTo>
                  <a:pt x="13376" y="8315"/>
                </a:moveTo>
                <a:lnTo>
                  <a:pt x="13376" y="6574"/>
                </a:lnTo>
                <a:lnTo>
                  <a:pt x="15152" y="6574"/>
                </a:lnTo>
                <a:lnTo>
                  <a:pt x="15152" y="10090"/>
                </a:lnTo>
                <a:close/>
              </a:path>
              <a:path fill="darkenLess" w="21600" h="25333">
                <a:moveTo>
                  <a:pt x="9877" y="16165"/>
                </a:moveTo>
                <a:lnTo>
                  <a:pt x="11723" y="16165"/>
                </a:lnTo>
                <a:lnTo>
                  <a:pt x="11723" y="19856"/>
                </a:lnTo>
                <a:lnTo>
                  <a:pt x="16109" y="19856"/>
                </a:lnTo>
                <a:lnTo>
                  <a:pt x="16109" y="12666"/>
                </a:lnTo>
                <a:lnTo>
                  <a:pt x="5491" y="12666"/>
                </a:lnTo>
                <a:lnTo>
                  <a:pt x="5491" y="19856"/>
                </a:lnTo>
                <a:lnTo>
                  <a:pt x="9877" y="1985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2124000" y="907920"/>
            <a:ext cx="28728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179280" y="892080"/>
            <a:ext cx="289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4"/>
              <p:cNvSpPr txBox="1"/>
              <p:nvPr/>
            </p:nvSpPr>
            <p:spPr>
              <a:xfrm>
                <a:off x="701640" y="836640"/>
                <a:ext cx="104472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63" name="Picture 5" descr="j0282748"/>
          <p:cNvPicPr/>
          <p:nvPr/>
        </p:nvPicPr>
        <p:blipFill>
          <a:blip r:embed="rId1"/>
          <a:stretch/>
        </p:blipFill>
        <p:spPr>
          <a:xfrm>
            <a:off x="468360" y="4508640"/>
            <a:ext cx="1219320" cy="129528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6"/>
          <p:cNvSpPr/>
          <p:nvPr/>
        </p:nvSpPr>
        <p:spPr>
          <a:xfrm>
            <a:off x="2771640" y="2781360"/>
            <a:ext cx="5400720" cy="1727280"/>
          </a:xfrm>
          <a:prstGeom prst="cloudCallout">
            <a:avLst>
              <a:gd name="adj1" fmla="val -72546"/>
              <a:gd name="adj2" fmla="val 473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What is the lowest number BOTH 3 and 7 divide int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Hmmmmm??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7"/>
          <p:cNvSpPr/>
          <p:nvPr/>
        </p:nvSpPr>
        <p:spPr>
          <a:xfrm>
            <a:off x="3059280" y="3645000"/>
            <a:ext cx="4033800" cy="1079280"/>
          </a:xfrm>
          <a:prstGeom prst="cloudCallout">
            <a:avLst>
              <a:gd name="adj1" fmla="val -89314"/>
              <a:gd name="adj2" fmla="val 4602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It is 21. So that is  my common denomina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8"/>
              <p:cNvSpPr txBox="1"/>
              <p:nvPr/>
            </p:nvSpPr>
            <p:spPr>
              <a:xfrm>
                <a:off x="2556000" y="765000"/>
                <a:ext cx="1871640" cy="115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?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?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7" name="AutoShape 9"/>
          <p:cNvSpPr/>
          <p:nvPr/>
        </p:nvSpPr>
        <p:spPr>
          <a:xfrm>
            <a:off x="3059280" y="2852640"/>
            <a:ext cx="3313080" cy="1871640"/>
          </a:xfrm>
          <a:prstGeom prst="cloudCallout">
            <a:avLst>
              <a:gd name="adj1" fmla="val -91351"/>
              <a:gd name="adj2" fmla="val 4949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What special form of 1 will change 7 to 21.  Hmmm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0"/>
          <p:cNvSpPr/>
          <p:nvPr/>
        </p:nvSpPr>
        <p:spPr>
          <a:xfrm>
            <a:off x="324000" y="2565360"/>
            <a:ext cx="2736720" cy="1152720"/>
          </a:xfrm>
          <a:prstGeom prst="cloudCallout">
            <a:avLst>
              <a:gd name="adj1" fmla="val -28421"/>
              <a:gd name="adj2" fmla="val 118458"/>
            </a:avLst>
          </a:prstGeom>
          <a:solidFill>
            <a:srgbClr val="f4fa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It is 3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So I multiply 3/7 by 3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11"/>
              <p:cNvSpPr txBox="1"/>
              <p:nvPr/>
            </p:nvSpPr>
            <p:spPr>
              <a:xfrm>
                <a:off x="162000" y="836640"/>
                <a:ext cx="5857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AutoShape 12"/>
          <p:cNvSpPr/>
          <p:nvPr/>
        </p:nvSpPr>
        <p:spPr>
          <a:xfrm>
            <a:off x="3492360" y="2852640"/>
            <a:ext cx="3313080" cy="1871640"/>
          </a:xfrm>
          <a:prstGeom prst="cloudCallout">
            <a:avLst>
              <a:gd name="adj1" fmla="val -91351"/>
              <a:gd name="adj2" fmla="val 4949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What special form of 1 will change 3 to 21.  Hmmm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3"/>
          <p:cNvSpPr/>
          <p:nvPr/>
        </p:nvSpPr>
        <p:spPr>
          <a:xfrm>
            <a:off x="1042920" y="2708280"/>
            <a:ext cx="2737080" cy="1152360"/>
          </a:xfrm>
          <a:prstGeom prst="cloudCallout">
            <a:avLst>
              <a:gd name="adj1" fmla="val -42458"/>
              <a:gd name="adj2" fmla="val 100138"/>
            </a:avLst>
          </a:prstGeom>
          <a:solidFill>
            <a:srgbClr val="f4fa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It is 7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So I multiply 2/3 by 7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14"/>
              <p:cNvSpPr txBox="1"/>
              <p:nvPr/>
            </p:nvSpPr>
            <p:spPr>
              <a:xfrm>
                <a:off x="1835280" y="861840"/>
                <a:ext cx="61740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3" name="AutoShape 15"/>
          <p:cNvSpPr/>
          <p:nvPr/>
        </p:nvSpPr>
        <p:spPr>
          <a:xfrm>
            <a:off x="2340000" y="4437000"/>
            <a:ext cx="5472000" cy="1079640"/>
          </a:xfrm>
          <a:prstGeom prst="cloudCallout">
            <a:avLst>
              <a:gd name="adj1" fmla="val -63694"/>
              <a:gd name="adj2" fmla="val -4115"/>
            </a:avLst>
          </a:prstGeom>
          <a:solidFill>
            <a:srgbClr val="f4fa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Now 3x3=9 and 2x7=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Now I know the new numer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16"/>
              <p:cNvSpPr txBox="1"/>
              <p:nvPr/>
            </p:nvSpPr>
            <p:spPr>
              <a:xfrm>
                <a:off x="4427640" y="846000"/>
                <a:ext cx="172872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5" name="AutoShape 17"/>
          <p:cNvSpPr/>
          <p:nvPr/>
        </p:nvSpPr>
        <p:spPr>
          <a:xfrm>
            <a:off x="3024360" y="2276640"/>
            <a:ext cx="6119640" cy="1368360"/>
          </a:xfrm>
          <a:prstGeom prst="cloudCallout">
            <a:avLst>
              <a:gd name="adj1" fmla="val -48444"/>
              <a:gd name="adj2" fmla="val 1699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Finally the fractions are READY to add. I just have to add the numerators 9+14=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18"/>
              <p:cNvSpPr txBox="1"/>
              <p:nvPr/>
            </p:nvSpPr>
            <p:spPr>
              <a:xfrm>
                <a:off x="6227640" y="831960"/>
                <a:ext cx="201636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7" name="AutoShape 19"/>
          <p:cNvSpPr/>
          <p:nvPr/>
        </p:nvSpPr>
        <p:spPr>
          <a:xfrm>
            <a:off x="8675640" y="6308640"/>
            <a:ext cx="468360" cy="54936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49360"/>
              <a:gd name="textAreaBottom" fmla="*/ 519120 h 549360"/>
            </a:gdLst>
            <a:ahLst/>
            <a:rect l="textAreaLeft" t="textAreaTop" r="textAreaRight" b="textAreaBottom"/>
            <a:pathLst>
              <a:path w="21600" h="25333">
                <a:moveTo>
                  <a:pt x="0" y="0"/>
                </a:moveTo>
                <a:lnTo>
                  <a:pt x="21600" y="0"/>
                </a:lnTo>
                <a:lnTo>
                  <a:pt x="21600" y="25333"/>
                </a:lnTo>
                <a:lnTo>
                  <a:pt x="0" y="25333"/>
                </a:lnTo>
                <a:close/>
              </a:path>
              <a:path fill="lightenLess" w="21600" h="253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333">
                <a:moveTo>
                  <a:pt x="21600" y="0"/>
                </a:moveTo>
                <a:lnTo>
                  <a:pt x="21600" y="25333"/>
                </a:lnTo>
                <a:lnTo>
                  <a:pt x="20200" y="23933"/>
                </a:lnTo>
                <a:lnTo>
                  <a:pt x="20200" y="1400"/>
                </a:lnTo>
                <a:close/>
              </a:path>
              <a:path fill="darkenLess" w="21600" h="25333">
                <a:moveTo>
                  <a:pt x="21600" y="25333"/>
                </a:moveTo>
                <a:lnTo>
                  <a:pt x="0" y="25333"/>
                </a:lnTo>
                <a:lnTo>
                  <a:pt x="1400" y="23933"/>
                </a:lnTo>
                <a:lnTo>
                  <a:pt x="20200" y="23933"/>
                </a:lnTo>
                <a:close/>
              </a:path>
              <a:path fill="lighten" w="21600" h="25333">
                <a:moveTo>
                  <a:pt x="0" y="253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933"/>
                </a:lnTo>
                <a:close/>
              </a:path>
              <a:path fill="darken" w="21600" h="25333">
                <a:moveTo>
                  <a:pt x="10800" y="5703"/>
                </a:moveTo>
                <a:lnTo>
                  <a:pt x="13376" y="8315"/>
                </a:lnTo>
                <a:lnTo>
                  <a:pt x="13376" y="6574"/>
                </a:lnTo>
                <a:lnTo>
                  <a:pt x="15152" y="6574"/>
                </a:lnTo>
                <a:lnTo>
                  <a:pt x="15152" y="10090"/>
                </a:lnTo>
                <a:lnTo>
                  <a:pt x="17763" y="12666"/>
                </a:lnTo>
                <a:lnTo>
                  <a:pt x="16109" y="12666"/>
                </a:lnTo>
                <a:lnTo>
                  <a:pt x="16109" y="19856"/>
                </a:lnTo>
                <a:lnTo>
                  <a:pt x="5491" y="19856"/>
                </a:lnTo>
                <a:lnTo>
                  <a:pt x="5491" y="12666"/>
                </a:lnTo>
                <a:lnTo>
                  <a:pt x="3837" y="12666"/>
                </a:lnTo>
                <a:close/>
              </a:path>
              <a:path fill="darkenLess" w="21600" h="25333">
                <a:moveTo>
                  <a:pt x="13376" y="8315"/>
                </a:moveTo>
                <a:lnTo>
                  <a:pt x="13376" y="6574"/>
                </a:lnTo>
                <a:lnTo>
                  <a:pt x="15152" y="6574"/>
                </a:lnTo>
                <a:lnTo>
                  <a:pt x="15152" y="10090"/>
                </a:lnTo>
                <a:close/>
              </a:path>
              <a:path fill="darkenLess" w="21600" h="25333">
                <a:moveTo>
                  <a:pt x="9877" y="16165"/>
                </a:moveTo>
                <a:lnTo>
                  <a:pt x="11723" y="16165"/>
                </a:lnTo>
                <a:lnTo>
                  <a:pt x="11723" y="19856"/>
                </a:lnTo>
                <a:lnTo>
                  <a:pt x="16109" y="19856"/>
                </a:lnTo>
                <a:lnTo>
                  <a:pt x="16109" y="12666"/>
                </a:lnTo>
                <a:lnTo>
                  <a:pt x="5491" y="12666"/>
                </a:lnTo>
                <a:lnTo>
                  <a:pt x="5491" y="19856"/>
                </a:lnTo>
                <a:lnTo>
                  <a:pt x="9877" y="1985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6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7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8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9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0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1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2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5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7T00:07:24Z</dcterms:created>
  <dc:creator>LHCA</dc:creator>
  <dc:description/>
  <dc:language>en-US</dc:language>
  <cp:lastModifiedBy>lkeeler</cp:lastModifiedBy>
  <dcterms:modified xsi:type="dcterms:W3CDTF">2011-02-23T16:53:43Z</dcterms:modified>
  <cp:revision>1</cp:revision>
  <dc:subject/>
  <dc:title>Adding and Subtracting Fractions</dc:title>
</cp:coreProperties>
</file>